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C6FD-3DBE-4EF8-B854-FC651C165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EBF5-1F05-4CBE-8440-35DA0B7CA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4F2F-D3CA-4AB1-AE4A-DE34EE541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231D-D3A0-4FFF-9D51-8B6D074DB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4274-1CBF-42D2-830C-975C47E51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6198-FAF4-4D37-A9AC-BB5667DD9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3EEF-96F1-4625-89F2-0D8950E84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BD05-2610-46B8-8935-D5A34E93D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D357-F3AA-4F32-8B51-83F93D967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996E-938D-4A36-A9F9-CDFB0ABDF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B5B4-7759-4908-8297-AFAA76A8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E7EF-4B62-4BA8-9711-71706DC55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A181E-9F07-4A66-8419-DAAE5D77FB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24360" y="609480"/>
            <a:ext cx="6368040" cy="10083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merican Typewriter"/>
              </a:rPr>
              <a:t>TYPES OF ROCK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2514600" cy="19634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90920" y="4419720"/>
            <a:ext cx="2819160" cy="2114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486400" y="2133720"/>
            <a:ext cx="2666880" cy="2000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124080" y="3048120"/>
            <a:ext cx="1828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5715000" y="4343400"/>
            <a:ext cx="1752480" cy="15238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838080" y="4266720"/>
            <a:ext cx="1371600" cy="1600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merican Typewriter"/>
              </a:rPr>
              <a:t>What type of rock is this?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merican Typewriter"/>
              </a:rPr>
              <a:t>How was it form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47960" y="2362320"/>
            <a:ext cx="3886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This is a coarse-grained, slow-cooling r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It has a dark color because it contains NO Quart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85800" y="2766960"/>
            <a:ext cx="3809880" cy="25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merican Typewriter"/>
              </a:rPr>
              <a:t>#5. GABBR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This is an Intrus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Igneous Roc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It formed by Melting and Cool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85800" y="2766960"/>
            <a:ext cx="3809880" cy="25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solidFill>
            <a:srgbClr val="cd7246">
              <a:alpha val="59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merican Typewriter"/>
              </a:rPr>
              <a:t>What type of rock is this?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merican Typewriter"/>
              </a:rPr>
              <a:t>How was it form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48320" y="2590920"/>
            <a:ext cx="3657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This rock is often red in co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It is a fast-cooling, non-crystal rock with 50% ho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85800" y="2602080"/>
            <a:ext cx="380988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d7246">
              <a:alpha val="57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merican Typewriter"/>
              </a:rPr>
              <a:t>#6. SCORI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48320" y="2437920"/>
            <a:ext cx="39621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This is an Extrusive Igneous Roc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It formed by Melting and Cool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85800" y="2602080"/>
            <a:ext cx="380988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solidFill>
            <a:srgbClr val="99cc00">
              <a:alpha val="49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merican Typewriter"/>
              </a:rPr>
              <a:t>What type of rock is this?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merican Typewriter"/>
              </a:rPr>
              <a:t>How was it form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This rock is formed when rounded river rocks are cemented together by river mu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The rocks are rounded by running wa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46280" y="1981080"/>
            <a:ext cx="3689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>
              <a:alpha val="57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merican Typewriter"/>
              </a:rPr>
              <a:t>#7. CONGLOMERA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This is a Sedimentary Roc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It formed by Weathering, Erosion, Deposition, Cementation, and Compa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46280" y="1981080"/>
            <a:ext cx="3689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solidFill>
            <a:srgbClr val="ff6600">
              <a:alpha val="37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merican Typewriter"/>
              </a:rPr>
              <a:t>What type of rock is this?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merican Typewriter"/>
              </a:rPr>
              <a:t>How was it form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This rock shows foli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It is a course-textured rock made from granite and arranged in alternating bands of light and dark miner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85800" y="2406600"/>
            <a:ext cx="3809880" cy="32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6600">
              <a:alpha val="37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merican Typewriter"/>
              </a:rPr>
              <a:t>#8. GNEIS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724280" y="2590920"/>
            <a:ext cx="37339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This is a Metamorphic R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It formed by Heat &amp; Pres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85800" y="2406600"/>
            <a:ext cx="3809880" cy="32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solidFill>
            <a:srgbClr val="808080">
              <a:alpha val="5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merican Typewriter"/>
              </a:rPr>
              <a:t>What type of rock is this?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merican Typewriter"/>
              </a:rPr>
              <a:t>How was it form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724280" y="2514240"/>
            <a:ext cx="381024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This rock is a fine-textured roc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It was formed from sha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It is often used for chalkboa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49320" y="1981080"/>
            <a:ext cx="3281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merican Typewriter"/>
              </a:rPr>
              <a:t>#9. SLAT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724280" y="2742840"/>
            <a:ext cx="3657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merican Typewriter"/>
              </a:rPr>
              <a:t>This is a Metamorphic R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merican Typewriter"/>
              </a:rPr>
              <a:t>It formed by Heat &amp; Pres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949320" y="1981080"/>
            <a:ext cx="3281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371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merican Typewriter"/>
              </a:rPr>
              <a:t>What type of rock is this?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merican Typewriter"/>
              </a:rPr>
              <a:t>How was it form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95320" y="2590920"/>
            <a:ext cx="3962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This rock formed in the surf zone of an oce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From broken pieces of shells cemented toge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04920" y="2514600"/>
            <a:ext cx="388620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merican Typewriter"/>
              </a:rPr>
              <a:t>THE EN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47960" y="2285640"/>
            <a:ext cx="3886200" cy="3352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merican Typewriter"/>
              </a:rPr>
              <a:t>#10. BONU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Identify this type of roc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How was  it form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What is this rock’s nam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85800" y="2386080"/>
            <a:ext cx="3809880" cy="33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merican Typewriter"/>
              </a:rPr>
              <a:t>#1. COQUIN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800240" y="1980720"/>
            <a:ext cx="3886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This is a Sedimentary R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It formed by Weathering, Erosion, Deposition, Cementation, and Compa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62120" y="2362320"/>
            <a:ext cx="396216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848720" cy="1371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merican Typewriter"/>
              </a:rPr>
              <a:t>What type of rock is this?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merican Typewriter"/>
              </a:rPr>
              <a:t>How was it form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24280" y="2285640"/>
            <a:ext cx="3657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This rock is a natural volcanic glass with many ho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It may float on wat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5800" y="261000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merican Typewriter"/>
              </a:rPr>
              <a:t>#2. PUMIC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723920" y="2742840"/>
            <a:ext cx="3886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merican Typewriter"/>
              </a:rPr>
              <a:t>This is an Extrusive Igneous R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merican Typewriter"/>
              </a:rPr>
              <a:t>It formed by Melting and Coo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5800" y="261000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848720" cy="13716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merican Typewriter"/>
              </a:rPr>
              <a:t>What type of rock is this?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merican Typewriter"/>
              </a:rPr>
              <a:t>How was it form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724280" y="2590920"/>
            <a:ext cx="41911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This is a very shiny coarse-textured r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The blurred minerals are visible to the human ey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This rock contains  raw Emerald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85800" y="2602080"/>
            <a:ext cx="380988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merican Typewriter"/>
              </a:rPr>
              <a:t>#3. SCHIS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47960" y="2590920"/>
            <a:ext cx="380988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merican Typewriter"/>
              </a:rPr>
              <a:t>This is a Metamorphic R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merican Typewriter"/>
              </a:rPr>
              <a:t>It formed by Heat &amp; Pres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5800" y="2602080"/>
            <a:ext cx="380988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solidFill>
            <a:srgbClr val="ffd37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merican Typewriter"/>
              </a:rPr>
              <a:t>What type of rock is this?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merican Typewriter"/>
              </a:rPr>
              <a:t>How was it form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merican Typewriter"/>
              </a:rPr>
              <a:t>This rock forms in deserts, beaches, and river b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merican Typewriter"/>
              </a:rPr>
              <a:t>It has distinct grains of sand cemented toge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merican Typewriter"/>
              </a:rPr>
              <a:t>The grains are usually made of small quartz parti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85800" y="2620800"/>
            <a:ext cx="3809880" cy="28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d37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merican Typewriter"/>
              </a:rPr>
              <a:t>#4. SANDSTON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This is a Sedimentary Roc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It formed by Weathering, Erosion, Deposition, Cementation, and Compa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85800" y="2620800"/>
            <a:ext cx="3809880" cy="28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8T16:09:18Z</dcterms:created>
  <dc:creator>Eric Knapp</dc:creator>
  <dc:description/>
  <dc:language>en-US</dc:language>
  <cp:lastModifiedBy>Eric Knapp</cp:lastModifiedBy>
  <cp:lastPrinted>2004-06-18T18:37:03Z</cp:lastPrinted>
  <dcterms:modified xsi:type="dcterms:W3CDTF">2005-03-04T11:44:52Z</dcterms:modified>
  <cp:revision>58</cp:revision>
  <dc:subject/>
  <dc:title>PowerPoint Presentation</dc:title>
</cp:coreProperties>
</file>